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mailto:patrick.dierschke@netxv.ne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3" action="ppaction://hlinksldjump"/>
          </p:cNvPr>
          <p:cNvSpPr/>
          <p:nvPr/>
        </p:nvSpPr>
        <p:spPr>
          <a:xfrm>
            <a:off x="762012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670572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d by Patrick Dierschke 2001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-mail Patrick Diersch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7.xml"/><Relationship Id="rId9" Type="http://schemas.openxmlformats.org/officeDocument/2006/relationships/slide" Target="slide6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slide" Target="slide7.xml"/><Relationship Id="rId14" Type="http://schemas.openxmlformats.org/officeDocument/2006/relationships/slide" Target="slide11.xml"/><Relationship Id="rId15" Type="http://schemas.openxmlformats.org/officeDocument/2006/relationships/slide" Target="slide15.xml"/><Relationship Id="rId16" Type="http://schemas.openxmlformats.org/officeDocument/2006/relationships/slide" Target="slide19.xml"/><Relationship Id="rId17" Type="http://schemas.openxmlformats.org/officeDocument/2006/relationships/slide" Target="slide8.xml"/><Relationship Id="rId18" Type="http://schemas.openxmlformats.org/officeDocument/2006/relationships/slide" Target="slide8.xml"/><Relationship Id="rId19" Type="http://schemas.openxmlformats.org/officeDocument/2006/relationships/slide" Target="slide12.xml"/><Relationship Id="rId20" Type="http://schemas.openxmlformats.org/officeDocument/2006/relationships/slide" Target="slide16.xml"/><Relationship Id="rId21" Type="http://schemas.openxmlformats.org/officeDocument/2006/relationships/slide" Target="slide16.xml"/><Relationship Id="rId22" Type="http://schemas.openxmlformats.org/officeDocument/2006/relationships/slide" Target="slide5.xml"/><Relationship Id="rId23" Type="http://schemas.openxmlformats.org/officeDocument/2006/relationships/slide" Target="slide9.xml"/><Relationship Id="rId24" Type="http://schemas.openxmlformats.org/officeDocument/2006/relationships/slide" Target="slide13.xml"/><Relationship Id="rId25" Type="http://schemas.openxmlformats.org/officeDocument/2006/relationships/slide" Target="slide17.xml"/><Relationship Id="rId26" Type="http://schemas.openxmlformats.org/officeDocument/2006/relationships/slide" Target="slide6.xml"/><Relationship Id="rId27" Type="http://schemas.openxmlformats.org/officeDocument/2006/relationships/slide" Target="slide10.xml"/><Relationship Id="rId28" Type="http://schemas.openxmlformats.org/officeDocument/2006/relationships/slide" Target="slide14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7.xml"/><Relationship Id="rId32" Type="http://schemas.openxmlformats.org/officeDocument/2006/relationships/slide" Target="slide11.xml"/><Relationship Id="rId33" Type="http://schemas.openxmlformats.org/officeDocument/2006/relationships/slide" Target="slide15.xml"/><Relationship Id="rId34" Type="http://schemas.openxmlformats.org/officeDocument/2006/relationships/slide" Target="slide19.xml"/><Relationship Id="rId35" Type="http://schemas.openxmlformats.org/officeDocument/2006/relationships/slide" Target="slide20.xml"/><Relationship Id="rId36" Type="http://schemas.openxmlformats.org/officeDocument/2006/relationships/image" Target="../media/image3.jpeg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BMCorrect!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Homer_Wrong.wav" TargetMode="Externa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GROOVY.wav" TargetMode="External"/><Relationship Id="rId3" Type="http://schemas.openxmlformats.org/officeDocument/2006/relationships/hyperlink" Target="file:///tmp/home/.config/libreoffice/4/user/gallery/WAYOFF.wav" TargetMode="External"/><Relationship Id="rId4" Type="http://schemas.openxmlformats.org/officeDocument/2006/relationships/hyperlink" Target="file:///tmp/home/.config/libreoffice/4/user/gallery/JeopardyNOSORRY.wav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609480" y="60948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is is ..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2209680"/>
            <a:ext cx="86868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5334120"/>
            <a:ext cx="1371600" cy="121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4874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734920" y="4114800"/>
            <a:ext cx="2971800" cy="20437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oll to next slide to modify the gam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6120" y="0"/>
            <a:ext cx="4114800" cy="3272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template for you to use in your classro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no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ll 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ppear on the actual slide s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wo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wo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hree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hree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hree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hree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Four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Four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Four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2860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Four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5334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09480" y="11430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4876920" y="114300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7010280" y="11430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609480" y="2514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2743200" y="2514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4876920" y="251460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7010280" y="2514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609480" y="38862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2743200" y="38862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4876920" y="388620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  <a:hlinkClick r:id="rId12"/>
          </p:cNvPr>
          <p:cNvSpPr/>
          <p:nvPr/>
        </p:nvSpPr>
        <p:spPr>
          <a:xfrm>
            <a:off x="7010280" y="38862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609480" y="533412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4" action="ppaction://hlinksldjump"/>
          </p:cNvPr>
          <p:cNvSpPr/>
          <p:nvPr/>
        </p:nvSpPr>
        <p:spPr>
          <a:xfrm>
            <a:off x="2743200" y="533412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5" action="ppaction://hlinksldjump"/>
          </p:cNvPr>
          <p:cNvSpPr/>
          <p:nvPr/>
        </p:nvSpPr>
        <p:spPr>
          <a:xfrm>
            <a:off x="4876920" y="533412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6" action="ppaction://hlinksldjump"/>
          </p:cNvPr>
          <p:cNvSpPr/>
          <p:nvPr/>
        </p:nvSpPr>
        <p:spPr>
          <a:xfrm>
            <a:off x="7010280" y="533412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2193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7" action="ppaction://hlinksldjump"/>
          </p:cNvPr>
          <p:cNvSpPr/>
          <p:nvPr/>
        </p:nvSpPr>
        <p:spPr>
          <a:xfrm>
            <a:off x="2743200" y="11430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1219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2193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7315200" y="1219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590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5909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25909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25909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962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962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962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9" action="ppaction://hlinksldjump"/>
          </p:cNvPr>
          <p:cNvSpPr/>
          <p:nvPr/>
        </p:nvSpPr>
        <p:spPr>
          <a:xfrm>
            <a:off x="7238880" y="3962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410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10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5410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33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5410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5335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gory 1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335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gory 2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00600" y="5335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gory 3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934320" y="533520"/>
            <a:ext cx="1676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gory 4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>
            <a:hlinkClick r:id="rId35" action="ppaction://hlinksldjump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296280" y="4017960"/>
            <a:ext cx="1828800" cy="2844720"/>
            <a:chOff x="9296280" y="4017960"/>
            <a:chExt cx="1828800" cy="2844720"/>
          </a:xfrm>
        </p:grpSpPr>
        <p:sp>
          <p:nvSpPr>
            <p:cNvPr id="86" name=""/>
            <p:cNvSpPr/>
            <p:nvPr/>
          </p:nvSpPr>
          <p:spPr>
            <a:xfrm>
              <a:off x="9296280" y="4017960"/>
              <a:ext cx="1828800" cy="284472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button goes to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inal Jeopardy 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601200" y="6303960"/>
              <a:ext cx="1218960" cy="4572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-2743200" y="120600"/>
            <a:ext cx="2362320" cy="5953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ose a Daily Double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on a button, go to action settings, choos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yper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lide…, select Slide 3, OK.  Scroll to the next slide to link to the appropriate category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72600" y="0"/>
            <a:ext cx="251460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nge category na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ouble clicking on them and typing in new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cc00"/>
                </a:solidFill>
                <a:latin typeface="Times New Roman"/>
              </a:rPr>
              <a:t>Final Jeopar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762012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 rot="20408400">
            <a:off x="990720" y="1828440"/>
            <a:ext cx="745164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inal Jeopardy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al Jeopardy Categ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7620120" y="56386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5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90720" y="1371600"/>
          <a:ext cx="7010280" cy="3733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 F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457200" y="5334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al Jeopardy Answer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447920"/>
            <a:ext cx="8381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Daily Doubl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7620120" y="5638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296280" y="3819600"/>
            <a:ext cx="2574720" cy="2669400"/>
            <a:chOff x="9296280" y="3819600"/>
            <a:chExt cx="2574720" cy="2669400"/>
          </a:xfrm>
        </p:grpSpPr>
        <p:sp>
          <p:nvSpPr>
            <p:cNvPr id="94" name=""/>
            <p:cNvSpPr/>
            <p:nvPr/>
          </p:nvSpPr>
          <p:spPr>
            <a:xfrm>
              <a:off x="9296280" y="3819600"/>
              <a:ext cx="2574720" cy="266940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 a hyperlink to the appropriate category sl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48560" y="5724360"/>
              <a:ext cx="1600200" cy="533520"/>
            </a:xfrm>
            <a:prstGeom prst="leftArrow">
              <a:avLst>
                <a:gd name="adj1" fmla="val 50000"/>
                <a:gd name="adj2" fmla="val 749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One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72600" y="2133720"/>
            <a:ext cx="2666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on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What 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ente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2209680" y="2438280"/>
            <a:ext cx="2133360" cy="411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click each black box, action settings, choose play sound, and select sound for either right or wrong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981080" y="0"/>
            <a:ext cx="190476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on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column head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enter categor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88440" y="457200"/>
            <a:ext cx="257508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on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lace answer her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ente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96280" y="3835440"/>
            <a:ext cx="3413160" cy="30200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ecting sou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right click on box, check box for play sound, click on Other sound… Navigate to sound folder in Jeopardy folder, click on sound to be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One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One 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One 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wo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Column Two 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nswer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/>
          </p:cNvPr>
          <p:cNvSpPr/>
          <p:nvPr/>
        </p:nvSpPr>
        <p:spPr>
          <a:xfrm>
            <a:off x="1066680" y="3962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3"/>
          </p:cNvPr>
          <p:cNvSpPr/>
          <p:nvPr/>
        </p:nvSpPr>
        <p:spPr>
          <a:xfrm>
            <a:off x="1066680" y="47242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4"/>
          </p:cNvPr>
          <p:cNvSpPr/>
          <p:nvPr/>
        </p:nvSpPr>
        <p:spPr>
          <a:xfrm>
            <a:off x="1066680" y="5410080"/>
            <a:ext cx="457200" cy="384120"/>
          </a:xfrm>
          <a:custGeom>
            <a:avLst/>
            <a:gdLst>
              <a:gd name="textAreaLeft" fmla="*/ 24840 w 457200"/>
              <a:gd name="textAreaRight" fmla="*/ 432360 w 45720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5706" h="21600">
                <a:moveTo>
                  <a:pt x="0" y="0"/>
                </a:moveTo>
                <a:lnTo>
                  <a:pt x="25706" y="0"/>
                </a:lnTo>
                <a:lnTo>
                  <a:pt x="25706" y="21600"/>
                </a:lnTo>
                <a:lnTo>
                  <a:pt x="0" y="21600"/>
                </a:lnTo>
                <a:close/>
              </a:path>
              <a:path fill="lightenLess" w="25706" h="21600">
                <a:moveTo>
                  <a:pt x="0" y="0"/>
                </a:moveTo>
                <a:lnTo>
                  <a:pt x="25706" y="0"/>
                </a:lnTo>
                <a:lnTo>
                  <a:pt x="24306" y="1400"/>
                </a:lnTo>
                <a:lnTo>
                  <a:pt x="1400" y="1400"/>
                </a:lnTo>
                <a:close/>
              </a:path>
              <a:path fill="darken" w="25706" h="21600">
                <a:moveTo>
                  <a:pt x="25706" y="0"/>
                </a:moveTo>
                <a:lnTo>
                  <a:pt x="25706" y="21600"/>
                </a:lnTo>
                <a:lnTo>
                  <a:pt x="24306" y="20200"/>
                </a:lnTo>
                <a:lnTo>
                  <a:pt x="24306" y="1400"/>
                </a:lnTo>
                <a:close/>
              </a:path>
              <a:path fill="darkenLess" w="25706" h="21600">
                <a:moveTo>
                  <a:pt x="25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6" y="20200"/>
                </a:lnTo>
                <a:close/>
              </a:path>
              <a:path fill="lighten" w="25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648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05:18:22Z</dcterms:created>
  <dc:creator>Patrick Dierschke</dc:creator>
  <dc:description/>
  <cp:keywords>jeopardy</cp:keywords>
  <dc:language>en-US</dc:language>
  <cp:lastModifiedBy>JPoole School District 36 - Surrey</cp:lastModifiedBy>
  <dcterms:modified xsi:type="dcterms:W3CDTF">2008-01-01T16:04:46Z</dcterms:modified>
  <cp:revision>59</cp:revision>
  <dc:subject>Multimedia</dc:subject>
  <dc:title>Jeopardy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northside.isd.tenet.edu/johnww/Index.html</vt:lpwstr>
  </property>
  <property fmtid="{D5CDD505-2E9C-101B-9397-08002B2CF9AE}" pid="9" name="LinkColor">
    <vt:r8>16711782</vt:r8>
  </property>
  <property fmtid="{D5CDD505-2E9C-101B-9397-08002B2CF9AE}" pid="10" name="MailAddress">
    <vt:lpwstr>johnww@www.northside.isd.tenet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JG Website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